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CE8-69F5-41B7-A2A0-8DD37F0F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939-9C9D-4565-8498-A8B0E1A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079-FFF8-4F7B-872A-B7F68DDE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478-62CB-4854-8094-90CD2055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22C1-38F7-451B-BBDA-4639EB68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2C15-46BA-4CB6-A7E9-070389BF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8FA1-F036-447D-A953-24FE2371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BD0E-6211-4183-88CD-97CFCDA1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5A4A-4FD0-4FC2-9617-8F77E8CF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2431-D971-4914-9A79-4810628D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7F0E-4885-415F-847B-1A67542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5EE-1BC4-419A-8F99-D90B187F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35ED-2CBC-49F3-9FD8-F08B86A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24AB-ED42-40DC-9ACF-B11133D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0270-B55B-4BD3-8770-FA7F44D8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063A-9D14-4B69-A065-2B92296E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42F3-268B-48FA-8F2F-FED5E3D2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CC3-0150-4C30-B518-0C07891F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5E8-46CF-4122-96DF-7CC38AD0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F3E-5A16-47CA-9B10-E1FE465A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4EE-0661-48F3-AC70-253C6EB4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ADB-BD7A-40FD-BC86-A9C2A15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601-650B-4482-A54C-99058E2D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64C-F0DC-4294-85D5-676DFEDD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640" cy="1523520"/>
            <a:chOff x="0" y="0"/>
            <a:chExt cx="9143640" cy="1523520"/>
          </a:xfrm>
        </p:grpSpPr>
        <p:sp>
          <p:nvSpPr>
            <p:cNvPr id="1" name=""/>
            <p:cNvSpPr/>
            <p:nvPr/>
          </p:nvSpPr>
          <p:spPr>
            <a:xfrm>
              <a:off x="0" y="711720"/>
              <a:ext cx="8993160" cy="81180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3640" cy="14641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88B-6A43-4BA1-A696-416326D6AA5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0011-81FE-43E8-94D0-8C3F434A04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Life of Christ, Part 1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reat Galilean Minist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0-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r, We Would See Jes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39BF-8222-4CC3-9946-5F308377D9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Sinful Woman Anoints His Feet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uke 7:36-5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attended a feast given by Simon, a Pharis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nful woman cam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an alabaster box of oin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hed His feet with her tears and her h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inted His feet with the oin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harise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ough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Jesus did not know she was a si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preached a parable on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BA7-15F2-45C4-A9D8-BCCC339EC6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arable of the Creditor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uke 7:41-5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reditor had two deb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wed different amounts and neither could pay their debt, but the creditor forgave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:  Which of them loved him the mos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on:  To him whom he forgave the most indebte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compared Simon’s acts with the woman’s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forgave the woman’s s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743-A671-439A-BBDA-2AD4268F8F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 Heals A Centurion’s Servant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8:5-13; Luke 7:1-1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enturion from Capernaum asked the Jewish elders to ask Jesus to heal his deathly ill serv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enturion sent a mess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worthy for you to enter my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say the word and he will be hea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when one has auth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poke and the centurion’s servant was he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31D-78C8-41F0-8E5F-C8134CBAEE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 Raises the Widow’s So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uke 7:11-17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His disciples and a great multitude went to N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eral procession was coming out of the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idow lost her only 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“Young man, Aris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ediately, the man sat up, spoke, and came out of the coff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news spread throughout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979-7B80-4CDA-A173-56DE9E54B1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ssage From John the Baptist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2-19; Luke 7:18-3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prison, John sent two disciples to ask Jesus, “Are you the one that should come or should we look for anoth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as busy performing mira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’s disciples witnessed these mira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787-E04E-4972-A5EB-84F77DAA79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’ Response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4-6; Luke 7:18-3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urned to John’s disciples and sai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and tell John the things which you hear and se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lind see and 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me walk;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epers are cleansed and 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af hear;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ad are raised up and 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or have the gospel preached to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blessed is he who is not offended because of Me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6C8-32D1-4160-8F87-9BDEB2021A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 Praises Joh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7-19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poke to the crow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id you think you would fi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ed swayed by the win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an dressed in fine cloth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oph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is the one of whom it was said, “Behold, I send my messenger before thy face, which shall prepare thy way before thee.” (Mal. 3: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also said that there has never been one greater than Joh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E9A-08E5-42B4-A5A0-98295A6670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sus Praises Joh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7-19; Luke 7:24-35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owd rejoiced over John’s bapt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harisees rejected the plan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criticized John and J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hen criticized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ither John nor Jesus came to “please”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F0A-810B-47C7-94DC-049F1B5584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oes Upon the Cities of Galilee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20-3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proved the cities because they did not rep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e to you, Chorazin! Bethsaid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compared with Tyre and Sid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e to you, Capernaum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compared with So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prayed a thankful pr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membered those who had believed and He gave them an invitation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451-119D-49E2-8A32-D7352EB1D5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0000"/>
            </a:gs>
            <a:gs pos="100000">
              <a:srgbClr val="7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Great Invitatio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11:28-3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me to Me, all you who labor and are heavy laden, and I will give you rest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ake My yoke upon you and learn from Me, for I am gentle and lowly in heart, and you will find rest for your souls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or My yoke is easy and My burden is ligh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899-B056-4E43-B03B-B65257A836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53:39Z</dcterms:created>
  <dc:creator>Frank D Vines</dc:creator>
  <dc:description/>
  <dc:language>en-US</dc:language>
  <cp:lastModifiedBy>Frank D Vines</cp:lastModifiedBy>
  <dcterms:modified xsi:type="dcterms:W3CDTF">2006-08-20T12:27:38Z</dcterms:modified>
  <cp:revision>14</cp:revision>
  <dc:subject/>
  <dc:title>Life of Christ, Par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